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14A-BD5F-4200-8D33-B79F892A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8D6C-60BE-4043-8F32-993645C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F0B-06BC-4C82-AC92-E3E6CED1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AFB3-7A8E-4D9D-AF20-2BDD11CD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CC8-DACC-4FF9-A2D5-71C86F24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8215-08AE-4B9E-A1CE-C35B84E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2F0-DF38-4E76-AC98-CA696A6F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CA0-FFA6-46BF-B9B9-EB84001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C49-5155-4A7C-B282-E038969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9D1-441F-4E33-B171-24303F0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070-A48C-4629-BB98-F653457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3C7-29F0-4E13-8A05-F9D8B86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8AA1-CED7-4912-9661-8D9C22547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6360" y="1994040"/>
            <a:ext cx="3883320" cy="3390840"/>
          </a:xfrm>
          <a:custGeom>
            <a:avLst/>
            <a:gdLst/>
            <a:ahLst/>
            <a:rect l="l" t="t" r="r" b="b"/>
            <a:pathLst>
              <a:path w="2446" h="2136">
                <a:moveTo>
                  <a:pt x="664" y="0"/>
                </a:moveTo>
                <a:lnTo>
                  <a:pt x="0" y="1080"/>
                </a:lnTo>
                <a:lnTo>
                  <a:pt x="600" y="2136"/>
                </a:lnTo>
                <a:lnTo>
                  <a:pt x="1832" y="2136"/>
                </a:lnTo>
                <a:lnTo>
                  <a:pt x="2446" y="1080"/>
                </a:lnTo>
                <a:lnTo>
                  <a:pt x="1822" y="4"/>
                </a:lnTo>
                <a:lnTo>
                  <a:pt x="664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d6cd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01360" y="135000"/>
            <a:ext cx="56134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Hexagon in a 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22200" y="1773360"/>
            <a:ext cx="3888000" cy="38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11360" y="3284640"/>
            <a:ext cx="1378080" cy="792000"/>
            <a:chOff x="2511360" y="3284640"/>
            <a:chExt cx="1378080" cy="792000"/>
          </a:xfrm>
        </p:grpSpPr>
        <p:sp>
          <p:nvSpPr>
            <p:cNvPr id="45" name=""/>
            <p:cNvSpPr/>
            <p:nvPr/>
          </p:nvSpPr>
          <p:spPr>
            <a:xfrm>
              <a:off x="2511360" y="3716280"/>
              <a:ext cx="137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65480" y="328464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222200" y="2421000"/>
            <a:ext cx="194328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017400">
            <a:off x="161640" y="1890360"/>
            <a:ext cx="1943280" cy="129564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 rot="3582600">
            <a:off x="163440" y="4227840"/>
            <a:ext cx="194292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70080" y="749160"/>
            <a:ext cx="1943280" cy="129564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 rot="18017400">
            <a:off x="4203000" y="4242240"/>
            <a:ext cx="194292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3582600">
            <a:off x="4204080" y="1882800"/>
            <a:ext cx="1943280" cy="129492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158920" y="5411880"/>
            <a:ext cx="1943280" cy="1295280"/>
          </a:xfrm>
          <a:custGeom>
            <a:avLst/>
            <a:gdLst/>
            <a:ahLst/>
            <a:rect l="l" t="t" r="r" b="b"/>
            <a:pathLst>
              <a:path w="1224" h="816">
                <a:moveTo>
                  <a:pt x="0" y="816"/>
                </a:moveTo>
                <a:lnTo>
                  <a:pt x="589" y="0"/>
                </a:lnTo>
                <a:lnTo>
                  <a:pt x="1224" y="816"/>
                </a:lnTo>
                <a:lnTo>
                  <a:pt x="589" y="181"/>
                </a:lnTo>
                <a:lnTo>
                  <a:pt x="0" y="816"/>
                </a:lnTo>
                <a:close/>
              </a:path>
            </a:pathLst>
          </a:custGeom>
          <a:solidFill>
            <a:srgbClr val="254be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708360"/>
            <a:ext cx="939600" cy="1689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58920" y="5397480"/>
            <a:ext cx="19558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114800" y="3708360"/>
            <a:ext cx="977760" cy="1689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079520" y="1999800"/>
            <a:ext cx="1012680" cy="1708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260440" y="1996920"/>
            <a:ext cx="1828800" cy="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206360" y="1994040"/>
            <a:ext cx="1054080" cy="17143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58080" y="10033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1. Draw a circle with a com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72120" y="2058840"/>
            <a:ext cx="288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2. Use the compass still set to the radius of the circle to mark of the radius distance around the circumference of th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22880" y="376092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Step 3. Join up the marks to form a hexag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075040" y="1887120"/>
            <a:ext cx="1886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03400" y="5268960"/>
            <a:ext cx="21744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0960" y="5240160"/>
            <a:ext cx="24768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62520" y="1887480"/>
            <a:ext cx="18864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862520" y="3716280"/>
            <a:ext cx="47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01880" y="3716280"/>
            <a:ext cx="56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2000"/>
                            </p:stCondLst>
                            <p:childTnLst>
                              <p:par>
                                <p:cTn id="31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4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4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8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6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8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2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4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01:55Z</dcterms:created>
  <dc:creator>gcheetham</dc:creator>
  <dc:description/>
  <dc:language>en-US</dc:language>
  <cp:lastModifiedBy>gcheetham</cp:lastModifiedBy>
  <dcterms:modified xsi:type="dcterms:W3CDTF">2007-09-06T02:38:09Z</dcterms:modified>
  <cp:revision>2</cp:revision>
  <dc:subject/>
  <dc:title>Hexagon in a circle</dc:title>
</cp:coreProperties>
</file>